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BB5-6C5F-436E-889B-42C9FB6D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1B0-B9CE-4677-9E76-4F20EBB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BF0-0D85-4867-8654-071C62F9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967-FF8D-4488-8B26-F0D01980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8B8-063B-4926-8BE7-79AC9BC9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5CAA-2A01-44C9-BCB6-13E4D32F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355-2957-45CC-A0B6-A82CC83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2744-74BB-40A8-9083-D01CCFBB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92DF-98DF-48E0-B377-70EAB6EB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664A-D3DD-424B-98A4-2C15D79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4409-015A-4B57-8788-3ED687C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A33-09F6-430A-AD99-9456C515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C664-BD79-4529-B827-6079EA8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F579-6B75-4DD8-AEB2-3FBE528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9AEA-E97D-420C-8550-B59EA16D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861F-C49A-4FC0-B88D-53772BC5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956B-8014-46AD-AB77-498B7E89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18F-B584-4088-885C-96B60694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EBA-E80B-4C05-9C7A-6FA4C4D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799-28F0-4AC5-8E67-A83BCD99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C1D-4816-4B36-92F5-10D7B9D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2E0-CC1E-4C53-AF0F-FB197DE3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3CB-DEAF-42BA-8F5B-A3AA1F9A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839-81C0-4891-93C2-5C308DF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9429-01A0-454E-85A2-85D4490A5A9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53D0-ED8E-4ECB-9AFE-1234387D41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章  国际资本流动与国际金融市场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capital flow &amp; International financial mark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第三节  离岸金融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离岸金融市场的概念与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类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离岸金融市场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离岸金融市场的特点和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的金融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存款工具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贷款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四、离岸金融市场对世界经济的影响及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对世界经济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离岸金融市场发展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资本流动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资本流动的含义与类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国际资本流动的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含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考察国际资本流动可以从五个方面入手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向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规模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的类型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性质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从资本流动方式来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（二）国际资本流动的类型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长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间接投资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国际借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短期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贸易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银行资金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保值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）投机性资本流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国际资本流动理论 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关于国际资本流动原因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完全竞争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产品生命周期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内在化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生产的折中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垄断优势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关于国际资本流动的效果与影响的理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般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双缺口理论模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雷布金斯基原理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国际金融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国际金融市场概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国际金融市场概念与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概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传统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新型的国际金融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国际金融市场形成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所在地必须有较为稳定的经济和政治环境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宽松的金融政策与优惠措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有完善的金融市场结构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国际金融市场需要具备良好的地理条件、拥有完善的国际通讯设施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国际金融市场的形成与发展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金融市场的形成与衰落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金融市场兴起；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离岸金融市场的形成与发展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二、货币市场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在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内的短期资金借贷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货币市场的分类（按照资金融通形式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短期信贷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短期证券市场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库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可转让银行定期存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银行承兑汇票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商业票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贴现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资本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定义：期限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的长期资金市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资本市场分类（按照贷款方式的不同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银行中长期贷款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-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长期贷款：国际惯例为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以上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中长期贷款运作方式（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130-1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证券市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政府债券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企业证券（公司债券、公司股票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四、外汇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一）外汇市场综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定义： 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广义的外汇市场；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狭义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市场的形式（从交易情况划分）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无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有固定交易场所的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二）外汇市场的组成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银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外汇经纪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中央银行等政府管汇机构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其他，如跨国公司、投机商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三）世界主要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伦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纽约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苏黎世外汇市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五、黄金市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一）黄金市场简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五大黄金交易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黄金市场种类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交割期限划分：现货交易市场和期货交易市场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按照管制程度划分：自由交易市场和限制交易市场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二）黄金市场的结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三）黄金市场的交易方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现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期货交易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四）世界主要黄金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伦敦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苏黎世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香港，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新加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2:50:17Z</dcterms:created>
  <dc:creator>MS User</dc:creator>
  <dc:description/>
  <dc:language>en-US</dc:language>
  <cp:lastModifiedBy>Dell</cp:lastModifiedBy>
  <dcterms:modified xsi:type="dcterms:W3CDTF">2021-08-23T22:46:23Z</dcterms:modified>
  <cp:revision>17</cp:revision>
  <dc:subject/>
  <dc:title>第四章  国际资本流动与国际金融市场</dc:title>
</cp:coreProperties>
</file>